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708-668E-4F11-AE3A-C43F018C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415-F09B-4928-A72C-D9D3A10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6D8-C937-4D8B-AA75-92BB1587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1B0-6977-4FF2-862A-949E3477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E08-2AFA-4664-8C61-EBB8BC95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5B1-9C9C-42B1-A9FB-C5AAF67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E94-AC91-4169-8DA1-7BAFBF6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F7F-739D-46C5-8DCA-432ACC0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F8D-F781-417F-9D31-5670DB8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965-5C40-4911-B73C-FFE3D10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9DF-BDD1-41C0-996C-DBBE02F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483-0719-4A80-A4ED-5909755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87D1-F8F5-42D6-BF58-C9C9A426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rayons.html" TargetMode="External"/><Relationship Id="rId4" Type="http://schemas.openxmlformats.org/officeDocument/2006/relationships/hyperlink" Target="http://inventors.about.com/od/cstartinventions/a/crayons.htm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"/>
            <a:ext cx="594360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gency FB"/>
              </a:rPr>
              <a:t>Crayola Crayon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gency FB"/>
              <a:ea typeface="Agency FB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5029200"/>
            <a:ext cx="2133360" cy="1280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Sara Matth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Friday, March 09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Perio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erlin Sans FB Demi"/>
              </a:rPr>
              <a:t>Computer #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726000"/>
            <a:ext cx="2505240" cy="313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9520" y="6553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1752480"/>
            <a:ext cx="266688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reeplay Music, 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Unison 30,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eb. 27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763200">
            <a:off x="1218960" y="2742840"/>
            <a:ext cx="1904760" cy="131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ildren all over the world use Cray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Binney &amp; Smith"/>
          <p:cNvPicPr/>
          <p:nvPr/>
        </p:nvPicPr>
        <p:blipFill>
          <a:blip r:embed="rId2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828800"/>
            <a:ext cx="464832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dward Binney &amp; Harold Smith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3, 201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rayo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ayola Crayon Histo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3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od/cstartinventions/a/crayon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ard Binney and Harold Smith co-invented Crayola Cray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oop boy"/>
          <p:cNvPicPr/>
          <p:nvPr/>
        </p:nvPicPr>
        <p:blipFill>
          <a:blip r:embed="rId5"/>
          <a:stretch/>
        </p:blipFill>
        <p:spPr>
          <a:xfrm>
            <a:off x="7543800" y="3048120"/>
            <a:ext cx="1347840" cy="1981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rayola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rayola company was developed in eastern Pennsylv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00 billionth Crayola Crayon was made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la Crayons are sold in more than 80 countries and packaged in more than 12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x of crayons was made in 19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re over one hundred different types of crayons being made by Cray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yola crayons are used all over the world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2902" t="5113" r="0" b="0"/>
          <a:stretch/>
        </p:blipFill>
        <p:spPr>
          <a:xfrm>
            <a:off x="6172200" y="5029200"/>
            <a:ext cx="254628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6553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ventor: Edward Binney and Harold Sm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y was born in Westchester county, New York in 18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0, along with his cousin Harold Smith, Binney opened a mill in Easton, Pennsylvania to produce slate pencils for sch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at, he began to experiment with wax and different colored d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Stead Binney, Harold’s wife, came up with th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009200">
            <a:off x="2285640" y="5181120"/>
            <a:ext cx="2438280" cy="128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6553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(Cli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5Z</dcterms:created>
  <dc:creator>install</dc:creator>
  <dc:description/>
  <dc:language>en-US</dc:language>
  <cp:lastModifiedBy>install</cp:lastModifiedBy>
  <dcterms:modified xsi:type="dcterms:W3CDTF">2012-03-09T15:25:14Z</dcterms:modified>
  <cp:revision>6</cp:revision>
  <dc:subject/>
  <dc:title>Slide 1</dc:title>
</cp:coreProperties>
</file>